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57D-EBEE-431E-B421-A01B7693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11C-9D8F-4E82-A1B6-0A24D3C2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593-FE12-4313-9609-2137E0EA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96D-AEA3-4DC2-B291-1F83BAF0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B6D0-7BF5-4C57-A730-1F957D78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9405-DD6F-433F-A22F-CC9AB525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9BBF-F78B-42AE-9C74-111992E1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1FB1-5B90-4EE1-90E6-832C71B6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EC59-BFE5-4BFB-9B85-9E80404C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758C-5518-4D75-94D3-1CB9DFBF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8665-FFAB-4DB1-A58E-4F0BC06F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5B1-5DA8-4115-8421-F93F2CDB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6049-F823-49B1-A3F4-5668D888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E906-CBA4-4D05-A9B1-CF0426A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97FF-B9F6-4079-85EC-C3E10CF7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4842-ED4B-4148-AE70-1EA63A30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DA5E-B7CB-44CF-B597-013BFF98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81D-8A67-4112-9E58-48FD324E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6E7-B059-46DB-9C26-C0075EA7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174-9319-4BAB-9D62-B629F250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6FC-919E-4A3C-8C3B-0F7534B8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C44-4955-46BB-81D1-E0FF5DE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46D-4271-462D-B177-C7F84FD1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0AF-30AF-4EDD-B9A0-17AC3F3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DCB7-4610-4534-A8E0-9CED658D12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E6FA-6F94-4C2C-A796-601A2F77C5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ct. 5, 2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ir a lake in south america full of gold and jewels Incan Indian chieves honored there gods by throwing jewels into a lake and jumping in, coated with gold pow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:irrigate::manure: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ive:openly::jittery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. 6-Ho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one paragraph about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Leon states that just for a minute the class was turned into Nazi Germany, what did he mean by th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3:03:22Z</dcterms:created>
  <dc:creator>VMS</dc:creator>
  <dc:description/>
  <dc:language>en-US</dc:language>
  <cp:lastModifiedBy>VMS</cp:lastModifiedBy>
  <dcterms:modified xsi:type="dcterms:W3CDTF">2009-10-05T13:16:24Z</dcterms:modified>
  <cp:revision>2</cp:revision>
  <dc:subject/>
  <dc:title>English</dc:title>
</cp:coreProperties>
</file>